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8C73-C800-4D55-ACCD-199FC6F2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DD97-AA86-4EC9-9AB9-448C0118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F944-E0C4-47DA-9575-FC382D6D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D832-693F-4C50-82F5-4FCEC401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013-38A0-40B3-BEE2-0F7B5659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738F-991E-43F8-9F5D-6DE4523C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B21D-090E-4550-A3DA-FB43EDD9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12AB-B898-465E-8B6D-37296EB4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F983-8C54-42D1-9B7C-5A110828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C046-3BD1-41C3-8C9E-3A8E8DD7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7AFE-E8F9-4818-A50D-B2D40548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A3C-F3D4-4EAD-A81D-B260B270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22A3-BA04-4F53-8ACD-414EC92D6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Arial"/>
              </a:rPr>
              <a:t>THE INFORMATION PROC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6 Step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OGO1"/>
          <p:cNvPicPr/>
          <p:nvPr/>
        </p:nvPicPr>
        <p:blipFill>
          <a:blip r:embed="rId1"/>
          <a:stretch/>
        </p:blipFill>
        <p:spPr>
          <a:xfrm>
            <a:off x="7524720" y="333360"/>
            <a:ext cx="119052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Steps in 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61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209680" indent="-3808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Organ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LOGO1"/>
          <p:cNvPicPr/>
          <p:nvPr/>
        </p:nvPicPr>
        <p:blipFill>
          <a:blip r:embed="rId1"/>
          <a:stretch/>
        </p:blipFill>
        <p:spPr>
          <a:xfrm>
            <a:off x="7667640" y="260280"/>
            <a:ext cx="119052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Steps in the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69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3399"/>
                </a:solidFill>
                <a:latin typeface="Arial"/>
              </a:rPr>
              <a:t>Defining: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hat do I really want to find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hy do I need to find this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hat are the key words and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deas of the tas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hat do I need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LOGO1"/>
          <p:cNvPicPr/>
          <p:nvPr/>
        </p:nvPicPr>
        <p:blipFill>
          <a:blip r:embed="rId1"/>
          <a:stretch/>
        </p:blipFill>
        <p:spPr>
          <a:xfrm>
            <a:off x="7596360" y="333360"/>
            <a:ext cx="1190520" cy="1251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250920" y="189000"/>
            <a:ext cx="1582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33cc"/>
                </a:solidFill>
                <a:latin typeface="Arial"/>
              </a:rPr>
              <a:t>DE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ORGAN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PRE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EVALU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95280" y="2997360"/>
            <a:ext cx="10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25080" y="3860640"/>
            <a:ext cx="1680480" cy="3682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m I on tas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Steps in 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3399"/>
                </a:solidFill>
                <a:latin typeface="Arial"/>
              </a:rPr>
              <a:t>2. Locating: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hat do I already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hat do I still need to find 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here can I find the information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hat sources can I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LOGO1"/>
          <p:cNvPicPr/>
          <p:nvPr/>
        </p:nvPicPr>
        <p:blipFill>
          <a:blip r:embed="rId1"/>
          <a:stretch/>
        </p:blipFill>
        <p:spPr>
          <a:xfrm>
            <a:off x="7596360" y="333360"/>
            <a:ext cx="1190520" cy="1251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395280" y="4869000"/>
            <a:ext cx="1582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DE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33cc"/>
                </a:solidFill>
                <a:latin typeface="Arial"/>
              </a:rPr>
              <a:t>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ORGAN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PRE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EVALU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070160" y="5805360"/>
            <a:ext cx="4013640" cy="3682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Have I used a variety of resour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Steps in 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569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3399"/>
                </a:solidFill>
                <a:latin typeface="Arial"/>
              </a:rPr>
              <a:t>3. Selecting: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What information do I really need to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What information can I leave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ow relevant is the information I have f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ow credible is the information I have f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ow will I record the information I n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LOGO1"/>
          <p:cNvPicPr/>
          <p:nvPr/>
        </p:nvPicPr>
        <p:blipFill>
          <a:blip r:embed="rId1"/>
          <a:stretch/>
        </p:blipFill>
        <p:spPr>
          <a:xfrm>
            <a:off x="7596360" y="333360"/>
            <a:ext cx="1190520" cy="1251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250920" y="5300640"/>
            <a:ext cx="1582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DE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33cc"/>
                </a:solidFill>
                <a:latin typeface="Arial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ORGAN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PRE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EVALU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436360" y="5734080"/>
            <a:ext cx="3179880" cy="6426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s the information relev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oes it have author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Steps in 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3399"/>
                </a:solidFill>
                <a:latin typeface="Arial"/>
              </a:rPr>
              <a:t>4. Organising: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ow can I best use the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ave I enough information for my purp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Do I need to use all this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ow can I best combine information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different 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LOGO1"/>
          <p:cNvPicPr/>
          <p:nvPr/>
        </p:nvPicPr>
        <p:blipFill>
          <a:blip r:embed="rId1"/>
          <a:stretch/>
        </p:blipFill>
        <p:spPr>
          <a:xfrm>
            <a:off x="7596360" y="333360"/>
            <a:ext cx="1190520" cy="1251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79280" y="5300640"/>
            <a:ext cx="1513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DE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33cc"/>
                </a:solidFill>
                <a:latin typeface="Arial"/>
              </a:rPr>
              <a:t>ORGAN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PRE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EVALU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708360" y="5877000"/>
            <a:ext cx="5099040" cy="3682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s my draft an accurate response to the tas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Steps in 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3399"/>
                </a:solidFill>
                <a:latin typeface="Arial"/>
              </a:rPr>
              <a:t>5. Presenting: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How am I to present my infor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t is original work because I have THOUGHT about the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LOGO1"/>
          <p:cNvPicPr/>
          <p:nvPr/>
        </p:nvPicPr>
        <p:blipFill>
          <a:blip r:embed="rId1"/>
          <a:stretch/>
        </p:blipFill>
        <p:spPr>
          <a:xfrm>
            <a:off x="7524720" y="333360"/>
            <a:ext cx="1190520" cy="1251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6804000" y="5013360"/>
            <a:ext cx="1582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DE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ORGAN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33cc"/>
                </a:solidFill>
                <a:latin typeface="Arial"/>
              </a:rPr>
              <a:t>PRE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EVALU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828000" y="5950080"/>
            <a:ext cx="4347360" cy="3682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Have I completed all parts of the tas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Steps in 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3399"/>
                </a:solidFill>
                <a:latin typeface="Arial"/>
              </a:rPr>
              <a:t>6. Evaluating: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hat did I learn from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How did I go – with each step of the Information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How did I go – presenting the infor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LOGO1"/>
          <p:cNvPicPr/>
          <p:nvPr/>
        </p:nvPicPr>
        <p:blipFill>
          <a:blip r:embed="rId1"/>
          <a:stretch/>
        </p:blipFill>
        <p:spPr>
          <a:xfrm>
            <a:off x="7524720" y="333360"/>
            <a:ext cx="1190520" cy="1251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6948360" y="4941720"/>
            <a:ext cx="1582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DE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ORGAN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PRE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33cc"/>
                </a:solidFill>
                <a:latin typeface="Arial"/>
              </a:rPr>
              <a:t>EVALU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780000" y="5445000"/>
            <a:ext cx="2419560" cy="119124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flec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hat was difficul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hat was eas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How could I imp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3348000" y="476280"/>
            <a:ext cx="2665440" cy="9144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nderstand the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6732720" y="1773360"/>
            <a:ext cx="2232000" cy="985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ocat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6227640" y="4221000"/>
            <a:ext cx="2664000" cy="1079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elect relev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2843280" y="5157720"/>
            <a:ext cx="3097080" cy="1224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ORGAN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onnect usefu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179280" y="3500280"/>
            <a:ext cx="2484720" cy="11304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resent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understa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539640" y="1773360"/>
            <a:ext cx="194472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9"/>
          <p:cNvSpPr/>
          <p:nvPr/>
        </p:nvSpPr>
        <p:spPr>
          <a:xfrm>
            <a:off x="1258920" y="2492280"/>
            <a:ext cx="217440" cy="1081080"/>
          </a:xfrm>
          <a:prstGeom prst="upArrow">
            <a:avLst>
              <a:gd name="adj1" fmla="val 50000"/>
              <a:gd name="adj2" fmla="val 124296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3"/>
          <p:cNvSpPr/>
          <p:nvPr/>
        </p:nvSpPr>
        <p:spPr>
          <a:xfrm rot="2843400">
            <a:off x="2339640" y="4797360"/>
            <a:ext cx="1143000" cy="343080"/>
          </a:xfrm>
          <a:prstGeom prst="leftRightArrow">
            <a:avLst>
              <a:gd name="adj1" fmla="val 50000"/>
              <a:gd name="adj2" fmla="val 6632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4"/>
          <p:cNvSpPr/>
          <p:nvPr/>
        </p:nvSpPr>
        <p:spPr>
          <a:xfrm rot="19259400">
            <a:off x="5435280" y="5013000"/>
            <a:ext cx="1214280" cy="342720"/>
          </a:xfrm>
          <a:prstGeom prst="leftRightArrow">
            <a:avLst>
              <a:gd name="adj1" fmla="val 50000"/>
              <a:gd name="adj2" fmla="val 705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 rot="5400000">
            <a:off x="6939720" y="3293280"/>
            <a:ext cx="1655640" cy="342720"/>
          </a:xfrm>
          <a:prstGeom prst="leftRightArrow">
            <a:avLst>
              <a:gd name="adj1" fmla="val 50000"/>
              <a:gd name="adj2" fmla="val 961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6"/>
          <p:cNvSpPr/>
          <p:nvPr/>
        </p:nvSpPr>
        <p:spPr>
          <a:xfrm rot="2460000">
            <a:off x="5796000" y="1413000"/>
            <a:ext cx="1214280" cy="342720"/>
          </a:xfrm>
          <a:prstGeom prst="leftRightArrow">
            <a:avLst>
              <a:gd name="adj1" fmla="val 50000"/>
              <a:gd name="adj2" fmla="val 705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7"/>
          <p:cNvSpPr/>
          <p:nvPr/>
        </p:nvSpPr>
        <p:spPr>
          <a:xfrm>
            <a:off x="4427640" y="1268280"/>
            <a:ext cx="288720" cy="1008360"/>
          </a:xfrm>
          <a:prstGeom prst="upArrow">
            <a:avLst>
              <a:gd name="adj1" fmla="val 50000"/>
              <a:gd name="adj2" fmla="val 87313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0"/>
          <p:cNvSpPr/>
          <p:nvPr/>
        </p:nvSpPr>
        <p:spPr>
          <a:xfrm rot="3913800">
            <a:off x="6122880" y="2093400"/>
            <a:ext cx="292320" cy="1089360"/>
          </a:xfrm>
          <a:prstGeom prst="upArrow">
            <a:avLst>
              <a:gd name="adj1" fmla="val 50000"/>
              <a:gd name="adj2" fmla="val 93165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1"/>
          <p:cNvSpPr/>
          <p:nvPr/>
        </p:nvSpPr>
        <p:spPr>
          <a:xfrm rot="8267400">
            <a:off x="5872320" y="3309480"/>
            <a:ext cx="287280" cy="1125720"/>
          </a:xfrm>
          <a:prstGeom prst="upArrow">
            <a:avLst>
              <a:gd name="adj1" fmla="val 50000"/>
              <a:gd name="adj2" fmla="val 97964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3"/>
          <p:cNvSpPr/>
          <p:nvPr/>
        </p:nvSpPr>
        <p:spPr>
          <a:xfrm rot="10800000">
            <a:off x="4356000" y="3715920"/>
            <a:ext cx="287280" cy="1513080"/>
          </a:xfrm>
          <a:prstGeom prst="upArrow">
            <a:avLst>
              <a:gd name="adj1" fmla="val 50000"/>
              <a:gd name="adj2" fmla="val 131673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6"/>
          <p:cNvSpPr/>
          <p:nvPr/>
        </p:nvSpPr>
        <p:spPr>
          <a:xfrm>
            <a:off x="539640" y="5084640"/>
            <a:ext cx="1582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ORGAN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7"/>
          <p:cNvSpPr/>
          <p:nvPr/>
        </p:nvSpPr>
        <p:spPr>
          <a:xfrm rot="13957800">
            <a:off x="2627640" y="3213000"/>
            <a:ext cx="360360" cy="1079640"/>
          </a:xfrm>
          <a:prstGeom prst="upArrow">
            <a:avLst>
              <a:gd name="adj1" fmla="val 50000"/>
              <a:gd name="adj2" fmla="val 749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"/>
          <p:cNvSpPr/>
          <p:nvPr/>
        </p:nvSpPr>
        <p:spPr>
          <a:xfrm>
            <a:off x="2916360" y="2276640"/>
            <a:ext cx="3168360" cy="14904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heck your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01:36:33Z</dcterms:created>
  <dc:creator>tss</dc:creator>
  <dc:description/>
  <dc:language>en-US</dc:language>
  <cp:lastModifiedBy>02216805</cp:lastModifiedBy>
  <dcterms:modified xsi:type="dcterms:W3CDTF">2009-10-12T03:53:43Z</dcterms:modified>
  <cp:revision>11</cp:revision>
  <dc:subject/>
  <dc:title>THE INFORMATION PROCESS</dc:title>
</cp:coreProperties>
</file>